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051"/>
        <c:axId val="9761892"/>
      </c:barChart>
      <c:catAx>
        <c:axId val="165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892"/>
        <c:crosses val="autoZero"/>
        <c:auto val="1"/>
        <c:lblAlgn val="ctr"/>
        <c:lblOffset val="100"/>
        <c:noMultiLvlLbl val="0"/>
      </c:catAx>
      <c:valAx>
        <c:axId val="9761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04F-59A7-4BDD-BB0E-0AC8D5A4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DEE-6099-4697-B9F6-4B44AF0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9A4-05CF-4961-83C2-595A5701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AD2-4368-494C-AFF5-11E7F64D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F2B-EADF-43BE-A411-0400A72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F9A-BAEF-4285-9AB9-33EE57D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FA1-7013-4846-A7C7-89CF54E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4A0-FCD3-4622-8BA2-5227E6F8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8EA-D74A-4E4D-91D5-9E496C1E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779-B455-4205-B2E5-EE1084A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90C-72CB-4E67-8427-E0451C66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614-6DCA-46AE-846F-781FAC09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D1C0A-33F9-4CD0-9932-008EA67EB1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