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97296"/>
        <c:axId val="95469726"/>
      </c:barChart>
      <c:catAx>
        <c:axId val="42097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69726"/>
        <c:crosses val="autoZero"/>
        <c:auto val="1"/>
        <c:lblAlgn val="ctr"/>
        <c:lblOffset val="100"/>
        <c:noMultiLvlLbl val="0"/>
      </c:catAx>
      <c:valAx>
        <c:axId val="95469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7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959-1FD0-4056-9A95-0DBE4968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589-E67D-4ECC-9775-429288C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ADA-986D-4F1F-9D27-76B849E1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B69-87D2-4A35-99C2-4186453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CB6-30FF-4B0A-87C0-F98E8449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123-6F9D-40FE-9D36-3DA98C9F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0BB-9046-4649-B799-F5AD0ADA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1AF-D429-4E47-8F80-CAF20BF8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26D-00FB-4D52-A934-C46A3C4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A26-D335-4B5D-B552-39C421F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5A1-F58B-4FC4-ABF2-7198715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EA4-CDF1-4476-9C14-89B4E3B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45C30-B124-4407-9F09-FFD3E45F8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