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64010"/>
        <c:axId val="32646851"/>
      </c:barChart>
      <c:catAx>
        <c:axId val="45964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46851"/>
        <c:crosses val="autoZero"/>
        <c:auto val="1"/>
        <c:lblAlgn val="ctr"/>
        <c:lblOffset val="100"/>
        <c:noMultiLvlLbl val="0"/>
      </c:catAx>
      <c:valAx>
        <c:axId val="32646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64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4C9-822D-422A-9668-0A7664CF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3B6-A579-448E-8970-9B2B4AA5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4FA-5525-42FF-A873-BEF3600A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3BF-814F-4103-992C-22F18827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6A8-4894-43F8-A5ED-E41C551A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0FE-B1A4-40F2-8745-E9B9A75E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F44-023E-4C7D-9A61-5B5D58AE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61A-E728-4596-9186-1D91A7C2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2AF-0586-435F-82FF-C6E19C67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DF5-2D24-4040-8778-178728AC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391-27E8-40CA-B854-63C51C00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F5C-76DB-4833-83A8-A836601E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8519A-F9E2-4C21-98BB-C6BAF0210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