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498707"/>
        <c:axId val="95791274"/>
      </c:barChart>
      <c:catAx>
        <c:axId val="754987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91274"/>
        <c:crosses val="autoZero"/>
        <c:auto val="1"/>
        <c:lblAlgn val="ctr"/>
        <c:lblOffset val="100"/>
        <c:noMultiLvlLbl val="0"/>
      </c:catAx>
      <c:valAx>
        <c:axId val="957912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987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503E-2A00-462A-B6D0-15AB76E0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407B-45FC-46F2-9762-C236E71E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C053-7076-430D-8987-321296C8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DC66-0285-42E7-BEA7-0DB612D42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4AC2-05B0-4EDA-9495-B9C7C5FE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AE2A-4FF5-456A-BA51-3419DAE8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8772-D5FF-4D43-A5B8-6459CA67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9A09-9E17-44C6-AAA5-EBEC274F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23FC-482F-4593-B2BB-D389DC45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31B1-0227-435F-BF0E-B22AD2A5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9AED-A64A-47D6-8D2B-84C2FB50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46B2-2C7D-426B-BFBF-AEFDB816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4AB69-5745-4E45-829C-01BAF701A1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