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70076"/>
        <c:axId val="50888869"/>
      </c:barChart>
      <c:catAx>
        <c:axId val="30070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88869"/>
        <c:crosses val="autoZero"/>
        <c:auto val="1"/>
        <c:lblAlgn val="ctr"/>
        <c:lblOffset val="100"/>
        <c:noMultiLvlLbl val="0"/>
      </c:catAx>
      <c:valAx>
        <c:axId val="50888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70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90D-146B-4E5B-B784-F4CF8993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7FF-33C3-4E96-A5C4-D55A6547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223-7366-4CEA-B38F-CDAFC73E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B80-1FA8-43C0-A29C-5F9F04F3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7C5-A598-422E-AA65-1D6523E8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5CA-3D9B-4D5F-AD6F-52D2368D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C20-1BA6-40F4-940D-98D69BCC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4D0-759E-4881-AEED-DD6A614E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BAC-7ACC-45F0-92D3-8F3DBDB5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AC3-0966-4EAC-901F-082F4C95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120-E248-4838-8DA1-173BA5CF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BED-1BAC-412F-A554-FE13678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CF487-7E09-425A-AF17-29DDF7B16B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