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25C38B-F200-42FF-99AC-303D54A334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1A1F31-E8FB-4ABA-BCF1-691CADB71D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FE8040-4DEC-48B1-9E74-1272A2F80B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9A2A18-B9DD-4092-86EC-A48CF61DD7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88F5E1F-1BC1-4D06-90F0-ED133ABE13C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FBDFD6-3EEB-4AF3-B3E3-46AE13E83E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1F3D47-9E76-4960-8C41-CCE035A19B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77CC2E-42F8-4A2D-AA5B-9CB02F44A0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C2372F-9E9C-42E8-9DE8-6CB8510386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B1763B-E709-43C2-ABB6-0400593AF0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D9EA71-D77F-412D-86F6-2C82D5D66A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D67303-64F9-4010-93C5-9870DA04F8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D8C4E5-D47B-4ED4-92F0-C0010F7C5D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4A9B80-F93F-4BF0-AFAE-FB864D5744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EC5BA2-169F-48A9-A59A-B85F3F72D5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24955F4-286D-4CB4-883D-8B1DE2CC58E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E967536-C152-4500-9503-E6747DFD338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20E234-47C4-4E07-94C1-19085D4CA8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74DB4A-15A6-44DB-9DD8-D4903E3562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B358E7-49FB-48C4-85BC-0C96D9E586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561658-CF9D-4A54-81D7-EF6CB1AD3A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67984B-227F-42B9-901B-38AA45400E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1FC3F6-BBBA-424F-927E-E72307843E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C945BC-1674-43EC-B873-EF687A73AA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5D4146-D94C-489A-92D7-28A74776637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734481-5349-4ADB-ABD6-A36AC62BCDF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071D799-5ECA-4A31-8A33-4DA6E6408AB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88108C8-3164-4B86-AC1F-71074490B0D1}"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ED418F-895D-429D-97FA-F621225F965B}"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251FA4-0628-4313-96E6-3E780DB0E8CC}"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3BDB7B-D30D-43AD-84E9-E91AF390784C}"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7020E8-630B-42E5-8041-660007BFB28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91FA37-CE39-4463-8CBA-FD93D050AE3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C01399-9708-4A9A-8234-DD4E14CF48C1}"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DE01EB-4F1C-4E5D-AEB8-117BD7EC8B89}"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D4B7B7-A9BA-4ED0-ADD5-2F9B3245860A}"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A158FB-1124-4553-996E-2FC76A33C9D2}"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A54BD0-1D1B-417F-B23A-06C3BA523E09}"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974246-72CD-4C73-B5BC-9BF85F4C110C}"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F77996-6061-4097-A1F2-C061563E66F1}"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F53CCD-88F8-407A-BF26-1BF43A571985}"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61947E-0C0C-434B-B176-001A6B22B017}"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CE2363-6B6C-4C9A-B23F-F12D641A8ED1}"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CB4774-A51A-4DF7-8883-01F43A4770DD}"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C7C685-24B1-4137-9B8C-C0D55DD61491}"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B4DD07-3BE0-4C6F-BEF9-39742D4882A4}"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1A9655-292B-481D-91C9-A3C5D140E6D1}"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F039F1-34FE-442C-8949-45448A1E3D9D}"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4D576C-D63C-4F37-B3DC-0A64C58B1E2E}"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D7A4B0-2E52-4FEB-919A-C6894E5743CC}"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D973C2-1ADC-4ED5-BB68-E3FECA762684}"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72E23C-FA0E-4622-853A-519D8A0B0C96}"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7BB1B0-2C09-44DE-8EA4-F98DCC391F34}"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81AC34D-D393-41C4-8AE6-9C85CD6AA185}"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800EFB-8F38-43CC-9336-BAAB870510FD}"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98971B-9B6C-4AC0-8258-9BDCD8E8D162}"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C3B534-9F77-4A7C-85DB-53F43E52ABAC}"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37B317-68E2-4FD9-AC3A-870890A42847}"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328AE8-1A32-4DD4-A2C2-0571B3BEC436}"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1DC67F-FD30-449B-ABF4-3EE3C4B27873}"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5EF20E-6CEA-48FF-95A3-6B18364D5B8A}"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8A68FC-D764-447D-920E-EE7BA00F4688}"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E6FB3B-8D40-4C8A-B55E-E5DACE6C304B}"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33CBC0-C660-4AC9-AA33-E51EAAA3DC8E}"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E7186A-1C27-45E8-86A3-F4EC353BD4E2}"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C03C29-6939-4707-84C6-ABB7029F166F}"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917C73-0370-44ED-9876-E3FF3ABACF67}"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3DB0E8-3B33-4050-9E82-86E06B4DC384}"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DF316A-37C1-4DD5-A872-89693341AADB}"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28551A-04ED-4DD8-84BC-296E1F867FEA}"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F1537F-E50E-41B2-8EFF-47E73292A17B}"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8C55B7-A9DA-4367-84B1-3AF90FD2A305}"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1398BA-4AFB-4590-AC40-35CDB7A33971}"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44D2EF-79C5-474D-974C-D0BDEC303282}"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E022175-D92A-4A3C-8180-A2619DD40680}"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544397-CC93-465A-8922-DE1A23976170}"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7CE187-110B-464E-A3FC-4019ACBDE582}"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68D319D-3923-4E4F-BE75-EBEC51ADD2C6}"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B68856-71AC-4444-9528-69A5D421FD10}"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6305D3-D5F8-4A59-9E92-1FF5E7055F29}"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DAB224-7871-4A7F-A832-248F44EB1030}"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9F0739-E6EE-4391-AACD-F5FDB18995C1}"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85CFF9-91D5-48DC-A80A-E62B138B0EFE}"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F3AB12-F5A4-4A51-8E52-2DDFF483F562}"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75146C-F0A6-400C-BC70-A47EECDC4D15}"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063EF06-9AE5-4EC8-A5D6-3886050B1441}"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8A3278-A79D-484C-B498-B8691F90DD0C}"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CE3B2E-E388-4E64-ABD1-B830184831E9}"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F61193-2151-4573-93C6-F3DFF1F51F87}"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620130-57B9-4421-AD2B-43AA8DDEE104}"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1937AC-3C92-4EBA-9623-50697D0A21E2}"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6E49C14-C1E2-4524-B2F3-E7210D3D41F2}"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8E7D5E-6F00-4084-865F-0DFEE727BE39}"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144DC2-4BF1-4447-B30F-51191666E22E}"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58CB20-BEF8-49E5-A8A7-E38D77080792}"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F0EC86-22AC-45B4-AAD6-3A77B3665A08}"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843D242-A1A1-445F-9577-78C1DE9A34B9}"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8A1F34-CA6C-41C3-B138-3A92E68F06FF}"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F3E50F-6C5D-4E29-A12B-6ED3FFBC0C3D}"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DB07F5-A837-4427-BF81-5FA25E1944B4}"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AA9606-BD3B-4BB8-B869-9CCED1AA2CC9}"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925E70-9D0A-4727-9E48-483A29E163AF}"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A7C2BB-FCC6-42D5-9BB9-50D919AC7E49}"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F4D3D1E-DFED-4391-A8BD-43319E001C58}"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1C32BF-491A-4571-B106-D3BC6A91AEF5}"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B4C948-9CB9-4261-88C4-4AD667393327}"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10636D-8C64-4DB9-8F6B-06E0ACDF11F5}"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C69638D-29F6-4EA9-94B8-B7665224A944}"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222106-3946-4FB7-B28A-BD0A523BA462}"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30D8BCB-A801-4518-84A2-52C507436CD6}"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C424C9-FD6F-4672-9975-23251B6868C2}"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3C83B9-6D59-42A7-8F64-AF65D627AC86}"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3E41A7-F7A8-4D88-8328-D75705B1CE5A}"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01FF3E-4614-4E0A-8191-1FDABFA74898}"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32F826-C09A-4078-89BF-2BF490F465EC}"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79926F-9A3F-4FB9-B4E2-D0C904A0C89A}"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0462E5-56C7-4744-967E-5A5A296D526B}"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2A21FA-2F30-45B2-A6B2-F9A63CC1EEC2}"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AC7F32-3C22-4A01-83AA-62BE1C7F343B}"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63C25B-A194-4F25-A04E-77C46A8B84EC}"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4987EF-A409-4215-A33B-0FB1C16DBC77}"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22236E-A933-4C38-86A3-81ED298E2CDE}"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F772C1-BBF2-45D4-B0C2-B20D482FF944}"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F8A71E-CC1D-49F9-AF30-2460DCEEAD9B}"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AA1E3E-84A7-43D4-8776-26354924514B}"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449C862-E1B2-48BC-8A0D-8D5D0A4D9346}"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46BF0D-B3A7-4113-8D1B-57B26B653B51}"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224E6E-378A-40DE-A611-550307A95244}"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85E5C9-F9A0-417B-90B9-DCEDAC8BCB48}"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878143-51B8-40C2-B3DF-8649FAF8782D}"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A17B7A-90E2-496A-9D8B-42803F17090F}"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A828FC-34F3-43C3-AF18-7B7CD3F556BF}"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392920-852A-4A43-A516-4D2A6C582CDC}"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698B9A-1D57-4475-99CE-0ED25DF9EE03}"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C82B1F-7C46-40AB-8E9C-67E0D268918F}"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9446C4-86FA-4D33-8FC2-92330519DC36}"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55A8E5-E4C2-478F-B929-4BBBD42B4A4C}"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BCAE24-09D0-4329-9ACA-77C227CFF93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187773-A45D-4921-BA51-4F452FB7914E}"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12373B-2519-43B4-88D9-46FF0F532529}"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81F210-6CDB-4D98-B4B5-FAC191594A6D}"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3B5C29-DDE3-4E77-A6F5-81A3AD119331}"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DDBCC2-1C27-4268-9544-C9E282084E1D}"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EAC4AC-1EB2-48D9-9338-AC9B0163A8E2}"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1B86C1-6241-40B8-8F9A-B6E3C9046B4A}"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A4D819-C3FA-4892-A978-D00085F91417}"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C268F1-AF08-459A-9CFB-A0EF9794499A}"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8A56FE-A97C-4E28-A2CC-D6AAAA6E83CD}"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A6CEA8-6942-4731-9B95-03A81EA66EB8}"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FC8AAD-DFAF-4A43-ABA3-571D4FF6BEEE}"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7A989C-3517-42A3-8C8C-28237FF858F3}"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CCFC22-A5D6-4AA1-84AC-8DB75745A4D5}"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DF85F3-AFAE-4B96-88E2-8E80B4FB8EC9}"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ABBDCF2-7647-4DFB-8BDE-99F26C7CD4F2}"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C8C25C-2BFA-4F82-853B-9FAF96A3E92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EE1DA7-D092-4F19-B492-4B73F6585CB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91D0B6-4DCF-42EE-B3FA-88802454E46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B9D814-C567-445F-950C-B930FD82B6F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5D7277-623D-412C-BCCB-128E028A621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60069C-60EC-4FF4-BAC4-10BD46C9223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C1DA416-8C56-4BA4-8D85-210EAEC7693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3D7CEF-BCFB-46D2-99F3-D0C1D6FBBC4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A03509-4722-4237-9638-874C8F42F4C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A50BFF-2D25-4E19-BB08-5EB8773B5F0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7611DD-19D1-49D2-9ECF-5ACA05DF0F3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81D9D4-8742-45E3-99F9-896CDF36F7F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8F9095-91C4-4BC1-85AA-B630F3CF38C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0970E3-9D70-4F6C-A56F-80682D6389A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7D5B69-1FFC-4F28-B92F-D6178F9374C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92313F-A252-4E72-AD13-02A84B65336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94F0E8-2322-4389-8AFB-0E5EE220B03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AAFECF-7E22-43ED-BAE2-998CC89F70C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70456C-E984-49AA-A92C-8C57232B140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BC2D06-3193-48B0-9615-176966D8BAB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703DE9-A165-4443-88EE-BFCA1240890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E70EFF-22B0-49E2-AEDD-686FE21CBB5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B56DBB-949F-4F92-B07A-82CCD5D0136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AB81A8-5E6A-477F-AE41-88D27CDD948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2FD820-5CD6-4D92-9EB8-AA666BD5C9E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DD0BCB-6F27-486E-B9EE-762D398C3D0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09BDF5-E84F-45DF-9732-CA4D96885C8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6E5600-CC80-4508-8146-9541478AED3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48FBB4-2B27-4902-9E1C-48DAF7DF268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AFABEC-084D-41C7-A4DC-E7210EBAFC7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7062A7-1084-4E6A-8482-98AF71BEE71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63BED3-6462-40DF-878B-8A29647F714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4820CA-B023-4E8B-AF3F-C713F4D8CF4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BDA0D5-83C8-4867-B82E-EBAF89476D0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F4E7D0-2EFB-4D36-B8F6-0C03B3FB151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8E89FD-E193-41C1-ADAA-1250660DE78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74AAC8-CE14-4E36-BDA6-AE4895BF16D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78B63A-D16F-4DD0-B41A-8756A8612A3D}"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49977F-2C0C-48DB-8924-385A4FD673C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B341DA-8D70-4006-83BA-9041D8FF81F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9E86AB-775A-4F76-BB6E-0409651AC72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DF829B-0AA8-4770-840B-2863828C7AC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36FAE6-F0BE-48AD-A9C3-5C482F7BDC18}"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6B618A-D3B8-4FE7-9C9E-DD7CEAD3C93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2C40AB-C4FA-4532-A341-8CAF482A1142}"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5DDBAB-38C9-4586-BE63-04974FFF92E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B04B2C-3E00-49D9-92D9-5C028C1749B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535046F-7E96-4666-A39C-2489B37C920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317B60-9566-4032-BB99-F7140E41BF9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067883-C9F6-4EEB-B722-94FAD3E7D41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F7E904-98B2-4B9C-A5A8-C462BE09F3AC}"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F20C05-4CB4-4967-ACD8-119579682DF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CFD5C1-832F-41FF-958E-364928876AD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A3FF08-15D7-415B-96F1-3402BE7EAF4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FF8CA9-603F-45D3-9D63-AAA37FC52A94}"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946E66-F36C-48A9-B298-AB3739098A9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DDB5E8D-B2C5-43AF-B835-CBBBFE2F26AA}"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90EE6C-7AC5-4D6D-A3D9-1D1445082F4E}"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A6501A-AD58-43BB-866A-A7DE4C845E9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A7A343-4A30-411B-8615-DAD4C48B691B}"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F83E7A-24A9-44CC-8578-FFDDD68460BB}"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A34F86-4A01-449B-B9F1-DABCFE83632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8AD022-D22E-4146-A321-7F709A6AB428}"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941FFE-12B6-4F5D-AD20-3DB9855AB7B0}"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DEF039-0C6F-4014-9F85-71548CF4A6D0}"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C0DD58-321F-434B-A217-538AC6AA9ED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3A1AA8-1FEA-498D-BEEC-99D82A831A6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278556-A659-424D-8485-B8ADD4CC7D87}"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0094B3-CBA4-4766-8CC9-CAAD9BA959E5}"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5B5977-6E3B-4C00-B4AF-9C3A263FBD36}"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B5B914-2561-400E-9210-31F6D9DFFD2E}"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B2DF6E3-D4DA-42C0-8F4C-E2BDCE4B4C0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A22ABD-6BFF-434A-BB0D-61C2B9A07FD3}"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8C8EC6-DE5A-49B7-AD8D-D01270AD5B97}"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B19647-C2B0-4BA9-9B1E-EFE102D765E7}"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AC21AF-834F-418E-A011-DF93BDF015AE}"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6D6CAE-8FB2-48C2-8BD6-E4FB6A032F7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FE8F1F-E9C0-47AA-AE68-75230D80E194}"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8FD591-90DA-4C0D-96E9-A504CD8420FC}"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5A50DF-4231-42F9-BB9D-32740372EA95}"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AC452E-97F4-4BFE-9053-B618595406FF}"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1135B5-D1B4-4C11-BA92-E7B697C33819}"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ED1F59-A0DE-4108-AFD2-3F2C40E070B5}"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755120-9D59-4A04-9A30-D5351CA65059}"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DE9094-99EB-412C-9DB0-5BC1A3D161D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